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AE5-DEB8-470C-8B1B-DDCADA4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018-E350-46FA-A077-0F41C96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6FD-D02D-473C-9681-0C75A52C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7C8-4038-4C97-9714-63714E4E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FBB-A110-4202-A201-8794F81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DFC-7D6C-4DBF-98EE-7A0FAE03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C4D-6678-4C25-BD18-3B45E56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267-2F41-40F0-BAB6-A99E189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AD9-9F5D-4ABB-A4EF-6E1F7B5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3E6-F1E8-4B0B-93B4-0050786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DA-F362-460F-B6B8-B6F3DD0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D7D-629A-46E2-9B12-998FC04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179-7860-4F1D-827F-519C86C1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3200" y="184428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är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4440" y="378936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Jenny und 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98600">
            <a:off x="5795640" y="3573360"/>
            <a:ext cx="3132000" cy="241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9208800">
            <a:off x="0" y="1051920"/>
            <a:ext cx="338472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rä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Becherglas (100 ml), Waage, Pipette, Glasstab als Rü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hemikali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d/Kaliumiodid-Lösung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tilliertes Wasser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g eines Stärkeproduktes (jede Gruppe ein anderes z.B. Maisstärke, Kartoffelmehl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urchfüh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 das Stärkeprodukt in das Becherglas. Füge etwas Wasser hinzu und rühre gut u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nun 5 bis 10 Tropfen Jod/Kaliumiodid-Lösung hinz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e die Reaktion mit den Ergebnissen anderer Gru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asser fa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lösl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eht zu 80% aus Amylopek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il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im Erhitzen auf (40°C bis 60°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-87°C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erkleist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kühlung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erfestig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ühle Temperaturen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rogra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5099040"/>
            <a:ext cx="21589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8720" y="5084640"/>
            <a:ext cx="2158920" cy="17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5445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Qu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8360" y="548172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Verkleist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hrung –Verdau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st jeder pflanz. Nahrung ent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chtigste Kohlenhydrat  menschlicher Ernäh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dau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r Amylose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s Amylopektin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xtri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rption der Glucose im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050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bensmittelverarbeitu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Cremes, Flammeries,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den von Suppen und Soß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festmachen von Schlagsah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Dextrinen und Traubenzu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mehlhaltigen Nahrungsmitteln (z.B. Brot) und Nährmitt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zen von Baumwo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r Färbung mit Anilinfar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s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r bereits in der Antike bekannt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amy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6. Jh.: Hollän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ung großer Mengen Stär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deutendes Exportprodu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ärkeindustrie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andwirtschaftliches Gewer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nächst mäßig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 Maschinen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rößer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: in Tabletten als Bindemittel, Füllmittel, Sprengmit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80360" y="1665360"/>
            <a:ext cx="147312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hrung und Verdau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istorisch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88000" y="1449360"/>
            <a:ext cx="26845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7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lysaccha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icherform der Pfl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ergie durch enzymatischen Abb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in der Pflanze und bei der menschlichen Verdauu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winnung : Getreide, Kartoffeln, Mais &amp;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ht aus 20% Amylose (wasser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aus 80% Amylopektin (un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176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0 000 a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(1,4)-glykosid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egen in wässriger Lösung als Wendel 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Wendel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5-6 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50160" cy="242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54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544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 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gabe vo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ufä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d-Moleküle werden in Wendeln einge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r Reaktion mü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d-Ionen vorhanden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45268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 Mio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struktur wie Amylose, nur verzweig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. jeder 25. Glucose-Rest zusätz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(1,6)-glykosidisch verknüp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139160" cy="407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3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720" y="17002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 ist di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(1,6)-Verknüpfung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ylopektin-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 teilweise Einschlussverbi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ärbung: braun-viol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5:08:44Z</dcterms:created>
  <dc:creator>Becher</dc:creator>
  <dc:description/>
  <dc:language>en-US</dc:language>
  <cp:lastModifiedBy>Becher</cp:lastModifiedBy>
  <dcterms:modified xsi:type="dcterms:W3CDTF">2006-11-20T16:55:37Z</dcterms:modified>
  <cp:revision>15</cp:revision>
  <dc:subject/>
  <dc:title>Stärke</dc:title>
</cp:coreProperties>
</file>